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8781-A5A1-46D8-B53F-7F6FAF072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EA3E-2C6B-4241-BC0B-A9244BAF2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7319-7FFE-4453-A097-4EA498B99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4912-AED0-4A46-B7BE-6032C2125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9829-4735-48B9-8F88-622B8D8D1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E2C0-8FA7-468D-A229-DCED1457E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DD58-26F0-4E13-B1F4-D21CFDD70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D8E7-CFC4-4DFB-B021-D40A5921D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B550-8E95-42A3-9447-EE74970D4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07B1-1E4E-4C8C-99CE-4ED1865F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D9F9-05D9-49AE-931D-86620A0A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95E7-C6A8-46AC-AE5C-3B8E85D5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93ED5-4D90-465F-A9E0-181EA9052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hyperlink" Target="http://www.zimagz.com/2012/05/05/inspire-modern-living-room-design/picture-inspire-modern-living-room-design/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star border page blue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23880" y="990720"/>
            <a:ext cx="64008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cc"/>
                </a:solidFill>
                <a:latin typeface="Script MT Bold"/>
              </a:rPr>
              <a:t>La casa de mis sue</a:t>
            </a:r>
            <a:r>
              <a:rPr b="1" lang="en-US" sz="10000" spc="-1" strike="noStrike">
                <a:solidFill>
                  <a:srgbClr val="0000cc"/>
                </a:solidFill>
                <a:latin typeface="Script MT Bold"/>
                <a:ea typeface="Arial"/>
              </a:rPr>
              <a:t>ñ</a:t>
            </a:r>
            <a:r>
              <a:rPr b="1" lang="en-US" sz="10000" spc="-1" strike="noStrike">
                <a:solidFill>
                  <a:srgbClr val="0000cc"/>
                </a:solidFill>
                <a:latin typeface="Script MT Bold"/>
              </a:rPr>
              <a:t>os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81080" y="472428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Arial"/>
              </a:rPr>
              <a:t>By: Rachel 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143000" y="457200"/>
            <a:ext cx="6934320" cy="3790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143000" y="4267080"/>
            <a:ext cx="678168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00ac"/>
                </a:solidFill>
                <a:latin typeface="Monotype Corsiva"/>
              </a:rPr>
              <a:t>Mi casa est</a:t>
            </a:r>
            <a:r>
              <a:rPr b="1" lang="en-US" sz="2800" spc="-1" strike="noStrike">
                <a:solidFill>
                  <a:srgbClr val="7f00ac"/>
                </a:solidFill>
                <a:latin typeface="Monotype Corsiva"/>
                <a:ea typeface="Arial"/>
              </a:rPr>
              <a:t>á localizada en Ruby, South Carol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00ac"/>
                </a:solidFill>
                <a:latin typeface="Monotype Corsiva"/>
                <a:ea typeface="Arial"/>
              </a:rPr>
              <a:t>Hay cuatro pisos en la cas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00ac"/>
                </a:solidFill>
                <a:latin typeface="Monotype Corsiva"/>
                <a:ea typeface="Arial"/>
              </a:rPr>
              <a:t>Es muy grande, moderno, y bell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676520" y="1143000"/>
            <a:ext cx="5715000" cy="4121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676520" y="5257800"/>
            <a:ext cx="601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En la cocina tiene el nevera, el horno, el estufa, y el lavavajillas.  La cocina es grande y modern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33720" y="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ff00"/>
                </a:solidFill>
                <a:latin typeface="Arial"/>
              </a:rPr>
              <a:t>La coci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838080" y="533520"/>
            <a:ext cx="3886200" cy="2689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800600" y="609480"/>
            <a:ext cx="3629160" cy="2686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762120" y="3276720"/>
            <a:ext cx="3886200" cy="2585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4800600" y="3352680"/>
            <a:ext cx="3733920" cy="26323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066680" y="585144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39d7"/>
                </a:solidFill>
                <a:latin typeface="Arial"/>
              </a:rPr>
              <a:t>Hay cuatro </a:t>
            </a:r>
            <a:r>
              <a:rPr b="1" lang="es-ES" sz="2000" spc="-1" strike="noStrike">
                <a:solidFill>
                  <a:srgbClr val="9339d7"/>
                </a:solidFill>
                <a:latin typeface="Arial"/>
              </a:rPr>
              <a:t>dormitorios en la casa. Los dormitorios tiene camas, escritorios, ventanas, y computadoras. Los dormitorios son bello y fabulos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47920" y="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as dormitori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143000" y="3276720"/>
            <a:ext cx="3828960" cy="2098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5105520" y="3276720"/>
            <a:ext cx="3224160" cy="2157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219320" y="541008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Hay cuatro Ba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  <a:ea typeface="Arial"/>
              </a:rPr>
              <a:t>ñ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os en la casa. Los ba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  <a:ea typeface="Arial"/>
              </a:rPr>
              <a:t>ñ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os tiene ba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  <a:ea typeface="Arial"/>
              </a:rPr>
              <a:t>ñ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eras, lavabos, duchas, y mucho M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  <a:ea typeface="Arial"/>
              </a:rPr>
              <a:t>á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s.  Los ba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  <a:ea typeface="Arial"/>
              </a:rPr>
              <a:t>ñ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os son incredible y lujos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amazing bathroom shower"/>
          <p:cNvPicPr/>
          <p:nvPr/>
        </p:nvPicPr>
        <p:blipFill>
          <a:blip r:embed="rId4"/>
          <a:stretch/>
        </p:blipFill>
        <p:spPr>
          <a:xfrm>
            <a:off x="5410080" y="1219320"/>
            <a:ext cx="2733840" cy="19047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1523880" y="1219320"/>
            <a:ext cx="3238560" cy="19555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828800" y="0"/>
            <a:ext cx="617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990033"/>
                </a:solidFill>
                <a:latin typeface="Arial"/>
              </a:rPr>
              <a:t>Los ba</a:t>
            </a:r>
            <a:r>
              <a:rPr b="1" lang="en-US" sz="8000" spc="-1" strike="noStrike">
                <a:solidFill>
                  <a:srgbClr val="990033"/>
                </a:solidFill>
                <a:latin typeface="Arial"/>
                <a:ea typeface="Arial"/>
              </a:rPr>
              <a:t>ñ</a:t>
            </a:r>
            <a:r>
              <a:rPr b="1" lang="en-US" sz="8000" spc="-1" strike="noStrike">
                <a:solidFill>
                  <a:srgbClr val="990033"/>
                </a:solidFill>
                <a:latin typeface="Arial"/>
              </a:rPr>
              <a:t>o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838080" y="990720"/>
            <a:ext cx="4114800" cy="3085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Inspire modern Living Room Desig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29200" y="990720"/>
            <a:ext cx="3886200" cy="3070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286000" y="-152280"/>
            <a:ext cx="5943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Arial"/>
              </a:rPr>
              <a:t>Las salas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41148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ste sala es peque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ñ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, pero muy c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ó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o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29200" y="411480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ste sala es muy grande y modern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28800" y="502920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ca1c"/>
                </a:solidFill>
                <a:latin typeface="Arial"/>
              </a:rPr>
              <a:t>Las salas tiene sof</a:t>
            </a:r>
            <a:r>
              <a:rPr b="1" lang="en-US" sz="2400" spc="-1" strike="noStrike">
                <a:solidFill>
                  <a:srgbClr val="31ca1c"/>
                </a:solidFill>
                <a:latin typeface="Arial"/>
                <a:ea typeface="Arial"/>
              </a:rPr>
              <a:t>á</a:t>
            </a:r>
            <a:r>
              <a:rPr b="1" lang="en-US" sz="2400" spc="-1" strike="noStrike">
                <a:solidFill>
                  <a:srgbClr val="31ca1c"/>
                </a:solidFill>
                <a:latin typeface="Arial"/>
              </a:rPr>
              <a:t>s, televisi</a:t>
            </a:r>
            <a:r>
              <a:rPr b="1" lang="en-US" sz="2400" spc="-1" strike="noStrike">
                <a:solidFill>
                  <a:srgbClr val="31ca1c"/>
                </a:solidFill>
                <a:latin typeface="Arial"/>
                <a:ea typeface="Arial"/>
              </a:rPr>
              <a:t>ó</a:t>
            </a:r>
            <a:r>
              <a:rPr b="1" lang="en-US" sz="2400" spc="-1" strike="noStrike">
                <a:solidFill>
                  <a:srgbClr val="31ca1c"/>
                </a:solidFill>
                <a:latin typeface="Arial"/>
              </a:rPr>
              <a:t>nes, mesas, un hogar, y mucho m</a:t>
            </a:r>
            <a:r>
              <a:rPr b="1" lang="en-US" sz="2400" spc="-1" strike="noStrike">
                <a:solidFill>
                  <a:srgbClr val="31ca1c"/>
                </a:solidFill>
                <a:latin typeface="Arial"/>
                <a:ea typeface="Arial"/>
              </a:rPr>
              <a:t>á</a:t>
            </a:r>
            <a:r>
              <a:rPr b="1" lang="en-US" sz="2400" spc="-1" strike="noStrike">
                <a:solidFill>
                  <a:srgbClr val="31ca1c"/>
                </a:solidFill>
                <a:latin typeface="Arial"/>
              </a:rPr>
              <a:t>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676520" y="0"/>
            <a:ext cx="5790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ff00"/>
                </a:solidFill>
                <a:latin typeface="Arial"/>
              </a:rPr>
              <a:t>El comedo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600200" y="1219320"/>
            <a:ext cx="5715000" cy="35431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981080" y="4876920"/>
            <a:ext cx="5181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dde1"/>
                </a:solidFill>
                <a:latin typeface="Arial"/>
              </a:rPr>
              <a:t>El comedor tiene un mesa, sillas, y luces bonita. El comedor es grande y muy elegan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600200" y="76320"/>
            <a:ext cx="815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ff00"/>
                </a:solidFill>
                <a:latin typeface="Arial"/>
              </a:rPr>
              <a:t>El garaj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981080" y="1676520"/>
            <a:ext cx="4419720" cy="35352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133720" y="556272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ac"/>
                </a:solidFill>
                <a:latin typeface="Arial"/>
              </a:rPr>
              <a:t>El garaje es muy grande y antiguo</a:t>
            </a:r>
            <a:r>
              <a:rPr b="0" lang="en-US" sz="1800" spc="-1" strike="noStrike">
                <a:solidFill>
                  <a:srgbClr val="7f00a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16:47:27Z</dcterms:created>
  <dc:creator>hickeyrac</dc:creator>
  <dc:description/>
  <dc:language>en-US</dc:language>
  <cp:lastModifiedBy>hickeyrac</cp:lastModifiedBy>
  <dcterms:modified xsi:type="dcterms:W3CDTF">2012-05-23T18:44:49Z</dcterms:modified>
  <cp:revision>9</cp:revision>
  <dc:subject/>
  <dc:title>Slide 1</dc:title>
</cp:coreProperties>
</file>